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EE43-2B7C-4545-8E8D-57731131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5C8-8AFC-44AA-9F16-6778C3B4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4F5-F91E-4B57-9E7F-291F0D60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44F-8D76-4130-9CD2-E65AC149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F19A-DE35-40D3-8C50-32634894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D303-C79E-4A01-A0FA-4BC7B787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D280-6752-4774-A2C4-FE9E0E04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C445-8517-4546-95F6-80FDD066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5650-26F8-4982-9227-C960ABAD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364B-AB81-4935-92BA-02A6D6AB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F259-2D7B-4CE4-ACA2-817E25D8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BE5-8D41-41FF-967C-1A97988D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82AB-49F6-49E5-992D-6BA5014B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5B69-CA93-4809-8D97-A41B5103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0C51-7A82-4277-9D4B-6692966C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16CA-FFE0-4FBD-8D12-7841BAEB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A3BF-C582-4833-9D33-1661960A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D828-67C1-47B7-9D80-5318847E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A1E7-526B-4913-88E8-8641DF5E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42A-6BC6-4407-991F-9DBD12C0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EE8-007F-4673-B1B1-719997AC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3AB-2A3B-4EFE-BD68-75BC5EFA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502-4F7A-4A4A-ACB4-60787189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66C0-4BF3-4729-8EE6-D6E5AF6F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142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33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6633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17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43200" y="632412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671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F7BC-2D7E-4F1A-A807-83291592102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986E-9104-46FA-8D92-67D2D7B5DD1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cc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33cccc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33cccc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33cccc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7:13Z</dcterms:modified>
  <cp:revision>39</cp:revision>
  <dc:subject/>
  <dc:title>幻灯片 1</dc:title>
</cp:coreProperties>
</file>